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75F-165E-430F-AFAC-E4FE9AF5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D5E-7BE4-4AEE-8F90-0050DF3B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0DD-9B87-43A2-8C9D-FB6875E1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981-95CD-4F9E-ACE3-B5934AB6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A48C-C219-4DD8-B111-0EF106C2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53A0-CAF4-4840-9D6A-93778ADB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04F9-632D-4340-8173-4A0BE577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798A-A4BB-4A6F-83B9-12AB1E99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92E2-5D5F-4184-B5ED-E6119B4F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41D7-F93E-4140-8795-B89F929E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F99B-F4B3-43A1-9A96-2215DC9B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AD8-52DA-42D3-A206-79C977F9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75A6-1160-4CA3-A118-0DEC4D81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D467-E3CF-4656-B43A-FE758BDC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18DD-E487-4F1A-A9CF-B80AFB21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12D1-1FD0-48B4-A445-0523856F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ACF7-68B8-4343-98E9-A39AB2C9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DB3-D7F1-4B76-AB55-990D87A8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8B86-F625-4187-8115-7F800513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ABB-A3E8-48D3-9CB7-5F281F3D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DBAA-B82F-4C69-9304-21BC91A8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671F-7AF7-4E1E-B73B-2238AD1C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3AE-DD37-46FE-9373-44607800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892-02A2-4510-A3D5-E39D1912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3ED6-84C2-408B-89D8-EE9A7DCE9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83B3-E389-47F6-A0BC-66D82FF0E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Tex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7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Text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44956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xt is used in multimedia projects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 many way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-based train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5369040" y="1981080"/>
            <a:ext cx="3622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More Uses for Text in Multimedia</a:t>
            </a:r>
            <a:endParaRPr b="0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xt is also used in multimedia projects in these way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y on text for rules, “chat,” character descriptions, dialog, background story, and many more el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ional 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y on text for content, directions, feedback, and inform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os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text to display information, directions, and descrip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Formatting Tex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ormatting text controls the way the text looks. You can choose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sizes and col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al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spac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spacing or spacing between individual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 format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lining, shadow, superscript, subscript, watermarks, embossing, engraving, or ani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wra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Font Technologi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Understanding font technologies can be important when creating multimedia projects. The most popular font technologies are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able font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script, TrueType, and Open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tmap fo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are not scalable but provide more control over the appearance of text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Guidelines for Using Fon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 using many varying font styles in the same projec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possible, use fonts that come with both Windows and Mac O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bitmap fonts on critical areas such as buttons, titles, or headlin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ore Tips for Using Fon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fancy or whimsical fonts sparingly for special effects or emphasi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ep paragraphs and line lengths shor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bold, italic, and underlining options sparingly for emphas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ore Guidelines for Using Fon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 using text in all uppercase letter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font, style options, size, and color consistentl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adequate contrast between text and background when choosing colo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check spelling and gramma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Formatting for Screen Display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pply these guidelines to multimedia applications for display rather than to printed documents.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your presentation on monitors in several siz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patterned backgroun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small amounts of text on each screen displa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for a presentation that will be viewed by a large group of people must be visible from the back of the roo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nteractive displays, use consistent placement of hypertext lin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01:39:28Z</dcterms:created>
  <dc:creator>Danielle Perkins</dc:creator>
  <dc:description/>
  <dc:language>en-US</dc:language>
  <cp:lastModifiedBy>GLENCOE</cp:lastModifiedBy>
  <dcterms:modified xsi:type="dcterms:W3CDTF">2003-01-04T01:01:55Z</dcterms:modified>
  <cp:revision>11</cp:revision>
  <dc:subject/>
  <dc:title>Chapter 7 Text</dc:title>
</cp:coreProperties>
</file>